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26B-8294-40EE-AE08-3BE3F5F1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82A-B225-4DFB-B062-7FE49A94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B3F-B5F6-4B21-91F7-DAABFF2B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AB5-A257-4553-9B2C-F4D0ECA4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BF4-0420-4390-9D40-511865E3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F640-3467-4C60-B1FB-EC70CD72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F39-A1B1-4904-A51F-65D6C173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266-D6F8-4526-BA79-C1BE43E9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2880-D354-488A-87EE-701EF263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E8F-C439-4F29-BFE4-7724C5E4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19D-2532-494A-A03D-3D3B469B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90A-694E-4B1E-BE67-F918EE2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5144-1A9D-4FA8-B240-19014FB61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4238640"/>
            <a:ext cx="34322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1097"/>
                </a:solidFill>
                <a:latin typeface="Arial"/>
              </a:rPr>
              <a:t>July 11-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National Evolutionary Synthesis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Durham, North Carolina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http://gmod.org/GMOD_Summer_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10080"/>
            <a:ext cx="3886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1612"/>
                </a:solidFill>
                <a:latin typeface="Arial"/>
              </a:rPr>
              <a:t>Applications will be reviewed starting on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28600"/>
            <a:ext cx="0" cy="6400800"/>
          </a:xfrm>
          <a:prstGeom prst="line">
            <a:avLst/>
          </a:prstGeom>
          <a:ln w="28440">
            <a:solidFill>
              <a:srgbClr val="c2c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800600" y="1495440"/>
          <a:ext cx="4038480" cy="4600440"/>
        </p:xfrm>
        <a:graphic>
          <a:graphicData uri="http://schemas.openxmlformats.org/drawingml/2006/table">
            <a:tbl>
              <a:tblPr/>
              <a:tblGrid>
                <a:gridCol w="228600"/>
                <a:gridCol w="609480"/>
                <a:gridCol w="1905120"/>
                <a:gridCol w="1295280"/>
              </a:tblGrid>
              <a:tr h="31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dc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80"/>
                    </a:solidFill>
                  </a:tcPr>
                </a:tc>
              </a:tr>
              <a:tr h="418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,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s on Satu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The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’s database sche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Pract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ic Genome Brows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30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me annotation edi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0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Fag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map view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4ac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Annotation Ser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r GMOD components all in one packag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apup and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724280" y="615636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28600"/>
            <a:ext cx="4114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st annual GMOD Summer School is a 2 1/2 day hands-on workshop aimed at teaching new GMOD users how to get up and running with popular GMOD components. There will also be a concurrent 1 day session for principal investigators and decision makers that will give you a feel for what GMOD can do and what level of resources are needed to get a GMOD installation up and run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47280" y="121284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tativ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8:45:34Z</dcterms:created>
  <dc:creator>GMOD / NESCent</dc:creator>
  <dc:description/>
  <dc:language>en-US</dc:language>
  <cp:lastModifiedBy>GMOD / NESCent</cp:lastModifiedBy>
  <dcterms:modified xsi:type="dcterms:W3CDTF">2008-04-09T19:51:14Z</dcterms:modified>
  <cp:revision>5</cp:revision>
  <dc:subject/>
  <dc:title>PowerPoint Presentation</dc:title>
</cp:coreProperties>
</file>